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699444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9352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2552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7944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2552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7944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77240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352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51000"/>
          </a:bodyPr>
          <a:p>
            <a:pPr marL="195120" indent="0" algn="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5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6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LK BD1B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ick Miller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January 20, 2005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Looking at the well facing west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LK BD1B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6781680"/>
            <a:ext cx="9296280" cy="99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ick Miller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January 20, 2005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Close-up of the well showing the contractor’s markings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380880"/>
            <a:ext cx="4515120" cy="6019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LK BD1B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3000" y="67816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ick Miller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January 20, 2005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Looking at the benchmark facing south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629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LK BD1B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64767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ick Miller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January 20, 2005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A top view of the benchmark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93432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2:06:13Z</dcterms:created>
  <dc:creator>Diane S. Woods</dc:creator>
  <dc:description/>
  <dc:language>en-US</dc:language>
  <cp:lastModifiedBy>ERIC DETASSIS</cp:lastModifiedBy>
  <dcterms:modified xsi:type="dcterms:W3CDTF">2005-02-24T13:36:48Z</dcterms:modified>
  <cp:revision>88</cp:revision>
  <dc:subject/>
  <dc:title>G-600</dc:title>
</cp:coreProperties>
</file>