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58400" cy="77724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699444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9352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2552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7944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2552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7944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7724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352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51000"/>
          </a:bodyPr>
          <a:p>
            <a:pPr marL="195120" indent="0" algn="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5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6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IRAMAR-2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52480" y="6476760"/>
            <a:ext cx="73915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Biscayne Engineering Company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11-03-04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Looking Northeast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IRAMAR-2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52480" y="6476760"/>
            <a:ext cx="73915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Biscayne Engineering Company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11-03-04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Looking East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1143000"/>
            <a:ext cx="40006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IRAMAR-2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6476760"/>
            <a:ext cx="73915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Biscayne Engineering Company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11-03-04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Looking North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95480" y="1143000"/>
            <a:ext cx="40006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IRAMAR-2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6476760"/>
            <a:ext cx="73915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Biscayne Engineering Company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11-03-04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MIARAMAR 2*2004* MARKER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IRAMAR-2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6476760"/>
            <a:ext cx="73915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Biscayne Engineering Company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11-03-04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Flange Elevation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6477120" cy="531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2:06:13Z</dcterms:created>
  <dc:creator>Diane S. Woods</dc:creator>
  <dc:description/>
  <dc:language>en-US</dc:language>
  <cp:lastModifiedBy>Michael Bartholomew</cp:lastModifiedBy>
  <dcterms:modified xsi:type="dcterms:W3CDTF">2005-01-24T15:08:42Z</dcterms:modified>
  <cp:revision>42</cp:revision>
  <dc:subject/>
  <dc:title>G-600</dc:title>
</cp:coreProperties>
</file>