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784872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71600" y="6994440"/>
            <a:ext cx="784872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699444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393520" y="699444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25520" y="647676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79440" y="647676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71600" y="699444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25520" y="699444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79440" y="699444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71600" y="64767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77240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71600" y="699444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3520" y="699444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6994440"/>
            <a:ext cx="784872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64767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51000"/>
          </a:bodyPr>
          <a:p>
            <a:pPr marL="195120" indent="0" algn="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4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5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6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 1253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ick Miller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January 14, 2005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Looking at the well facing east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 1253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64767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ick Miller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January 14, 2005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Close-up of the well showing the contractor’s markings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685800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 1253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6781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ick Miller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January 14, 2005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Looking at the benchmark facing east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 1253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240" y="64767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ick Miller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January 14, 2005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A top view of the benchmark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2:06:13Z</dcterms:created>
  <dc:creator>Diane S. Woods</dc:creator>
  <dc:description/>
  <dc:language>en-US</dc:language>
  <cp:lastModifiedBy>ERIC DETASSIS</cp:lastModifiedBy>
  <dcterms:modified xsi:type="dcterms:W3CDTF">2005-02-24T15:33:19Z</dcterms:modified>
  <cp:revision>77</cp:revision>
  <dc:subject/>
  <dc:title>G-600</dc:title>
</cp:coreProperties>
</file>