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7724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2552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944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2552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944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51000"/>
          </a:bodyPr>
          <a:p>
            <a:pPr marL="195120" indent="0" algn="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DWASD-SOUTH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Northwes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DWASD-SOUTH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64767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Wes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0003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DWASD-SOUTH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64767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 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North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DWASD-SOUTH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43200" y="6476760"/>
            <a:ext cx="598176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MDWASD-S*2004* MARKER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41044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DWASD-SOUTH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64767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Flange Elevation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848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06:13Z</dcterms:created>
  <dc:creator>Diane S. Woods</dc:creator>
  <dc:description/>
  <dc:language>en-US</dc:language>
  <cp:lastModifiedBy>Michael Bartholomew</cp:lastModifiedBy>
  <dcterms:modified xsi:type="dcterms:W3CDTF">2004-12-29T13:51:21Z</dcterms:modified>
  <cp:revision>42</cp:revision>
  <dc:subject/>
  <dc:title>G-600</dc:title>
</cp:coreProperties>
</file>