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648/1649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wells facing nor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648/1649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662940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Close-up of the well PB1649 showing the contractor’s markings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648/1649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6781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benchmark facing nor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648/1649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6476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A top view of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ERIC DETASSIS</cp:lastModifiedBy>
  <dcterms:modified xsi:type="dcterms:W3CDTF">2005-02-24T15:45:18Z</dcterms:modified>
  <cp:revision>86</cp:revision>
  <dc:subject/>
  <dc:title>G-600</dc:title>
</cp:coreProperties>
</file>