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58400" cy="77724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600" y="578520"/>
            <a:ext cx="7772400" cy="590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6476760"/>
            <a:ext cx="7848720" cy="472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371600" y="6994440"/>
            <a:ext cx="7848720" cy="472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600" y="578520"/>
            <a:ext cx="7772400" cy="590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6476760"/>
            <a:ext cx="3830040" cy="472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93520" y="6476760"/>
            <a:ext cx="3830040" cy="472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71600" y="6994440"/>
            <a:ext cx="3830040" cy="472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393520" y="6994440"/>
            <a:ext cx="3830040" cy="472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1600" y="578520"/>
            <a:ext cx="7772400" cy="590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6476760"/>
            <a:ext cx="2527200" cy="472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025520" y="6476760"/>
            <a:ext cx="2527200" cy="472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679440" y="6476760"/>
            <a:ext cx="2527200" cy="472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371600" y="6994440"/>
            <a:ext cx="2527200" cy="472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025520" y="6994440"/>
            <a:ext cx="2527200" cy="472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679440" y="6994440"/>
            <a:ext cx="2527200" cy="472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371600" y="578520"/>
            <a:ext cx="7772400" cy="590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371600" y="64767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71600" y="578520"/>
            <a:ext cx="7772400" cy="590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371600" y="64767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600" y="578520"/>
            <a:ext cx="7772400" cy="590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371600" y="6476760"/>
            <a:ext cx="3830040" cy="9903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393520" y="6476760"/>
            <a:ext cx="3830040" cy="9903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600" y="578520"/>
            <a:ext cx="7772400" cy="590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772400" cy="24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71600" y="578520"/>
            <a:ext cx="7772400" cy="590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71600" y="6476760"/>
            <a:ext cx="3830040" cy="472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393520" y="6476760"/>
            <a:ext cx="3830040" cy="9903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371600" y="6994440"/>
            <a:ext cx="3830040" cy="472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600" y="578520"/>
            <a:ext cx="7772400" cy="590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6476760"/>
            <a:ext cx="3830040" cy="9903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393520" y="6476760"/>
            <a:ext cx="3830040" cy="472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93520" y="6994440"/>
            <a:ext cx="3830040" cy="472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600" y="578520"/>
            <a:ext cx="7772400" cy="590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6476760"/>
            <a:ext cx="3830040" cy="472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393520" y="6476760"/>
            <a:ext cx="3830040" cy="472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1600" y="6994440"/>
            <a:ext cx="7848720" cy="472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772400" cy="528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71600" y="64767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51000"/>
          </a:bodyPr>
          <a:p>
            <a:pPr marL="195120" indent="0" algn="r">
              <a:lnSpc>
                <a:spcPct val="9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195120" indent="-195120" algn="r">
              <a:lnSpc>
                <a:spcPct val="90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2" marL="195120" indent="-195120" algn="r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3" marL="195120" indent="-195120" algn="r">
              <a:lnSpc>
                <a:spcPct val="90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4" marL="195120" indent="-195120" algn="r">
              <a:lnSpc>
                <a:spcPct val="90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5" marL="195120" indent="-195120" algn="r">
              <a:lnSpc>
                <a:spcPct val="90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6" marL="195120" indent="-195120" algn="r">
              <a:lnSpc>
                <a:spcPct val="90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772400" cy="528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MDWASD-NORTH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6476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Biscayne Engineering Company, Inc.</a:t>
            </a: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  <a:p>
            <a:pPr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Date of Photo: 11-03-04</a:t>
            </a: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  <a:p>
            <a:pPr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View: Looking North</a:t>
            </a: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1447920" y="1143000"/>
            <a:ext cx="7162560" cy="537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772400" cy="528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MDWASD-NORTH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80880" y="6476760"/>
            <a:ext cx="8763120" cy="9903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Biscayne Engineering Company, Inc.</a:t>
            </a: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  <a:p>
            <a:pPr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Date of Photo: 11-03-04</a:t>
            </a: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  <a:p>
            <a:pPr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View: Looking South</a:t>
            </a: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7162920" cy="537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772400" cy="528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MDWASD-NORTH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743200" y="6476760"/>
            <a:ext cx="5981760" cy="9903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Biscayne Engineering Company, Inc.</a:t>
            </a: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  <a:p>
            <a:pPr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Date of Photo: 11-03-04</a:t>
            </a: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  <a:p>
            <a:pPr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View: MDWASDN*2004* MARKER</a:t>
            </a: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209680" y="1143000"/>
            <a:ext cx="514836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772400" cy="528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MDWASD-NORTH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52480" y="6476760"/>
            <a:ext cx="7391520" cy="9903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Biscayne Engineering Company, Inc.</a:t>
            </a: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  <a:p>
            <a:pPr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Date of Photo: 11-03-04</a:t>
            </a: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  <a:p>
            <a:pPr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View: Flange Elevation</a:t>
            </a: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  <a:p>
            <a:pPr indent="0" algn="r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819520" y="1143000"/>
            <a:ext cx="4000320" cy="5334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5T02:06:13Z</dcterms:created>
  <dc:creator>Diane S. Woods</dc:creator>
  <dc:description/>
  <dc:language>en-US</dc:language>
  <cp:lastModifiedBy>Michael Bartholomew</cp:lastModifiedBy>
  <dcterms:modified xsi:type="dcterms:W3CDTF">2004-12-29T13:55:23Z</dcterms:modified>
  <cp:revision>44</cp:revision>
  <dc:subject/>
  <dc:title>G-600</dc:title>
</cp:coreProperties>
</file>